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FA3F-D07B-4354-95D4-BD135D1E79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0001-707B-4E80-91D6-60451B1A2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A861-68F4-48C1-9A52-2AAEBEFCAFE9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3A45-05EA-44B4-BEDE-6154CBB95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34D8-A590-45AD-B136-6B19DD37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62B9-D229-4825-B9A8-A85F09259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4DA1-DFF6-4626-ADAA-F7BA99A4A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3A18-1B1E-40E2-868C-C7744349B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94FF-104E-488A-87FB-58CD7154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592AF-A7BF-49B4-B3A8-60991DDC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5566-2BDD-4306-A082-DB233677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9393-C09E-466A-935B-84D6760F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C196-AF75-471F-9D3C-6067D199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B1B9-0E30-4FBB-A8B3-C3156ED3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8B3B-F606-4AEE-8180-98D31F6B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70A6-DD1D-440F-8078-AF94F9F0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E99E-D855-4E8F-98F8-3988BA3A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23F8-EDA2-41F2-BB7E-71585108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CEEFA-5103-4806-8AD5-7EBA187DA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3AD6-15EA-4CED-811E-EF4AD2145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B232-D780-4851-A7A7-19E0B280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A018-1E3F-435F-99D1-1E4B8055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94BD-90C4-411E-A723-ABB29447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2EF9-0A98-4D99-8E1A-BBC92EF0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B87B-9C29-423B-840C-DC5AE6CC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1A15-32FB-421C-9E54-E1E1FB18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5CCD-FA9B-4C84-8A5B-80EDF49B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prstGeom prst="pie">
            <a:avLst/>
          </a:pr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prstGeom prst="pie">
            <a:avLst/>
          </a:pr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B307-2585-4E14-ABF9-EC6DA7F115D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prstGeom prst="pie">
            <a:avLst/>
          </a:pr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prstGeom prst="pie">
            <a:avLst/>
          </a:pr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prstGeom prst="pie">
            <a:avLst/>
          </a:pr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C8C1-FB16-4675-9C31-C23ACBB6FAC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4KrIMZpwCY&amp;safety_mode=true&amp;persist_safety_mode=1" TargetMode="External"/><Relationship Id="rId2" Type="http://schemas.openxmlformats.org/officeDocument/2006/relationships/hyperlink" Target="http://www.youtube.com/watch?v=S4KrIMZpwCY&amp;safety_mode=true&amp;persist_safety_mode=1" TargetMode="External"/><Relationship Id="rId3" Type="http://schemas.openxmlformats.org/officeDocument/2006/relationships/hyperlink" Target="http://www.youtube.com/watch?v=S4KrIMZpwCY&amp;safety_mode=true&amp;persist_safety_mode=1" TargetMode="External"/><Relationship Id="rId4" Type="http://schemas.openxmlformats.org/officeDocument/2006/relationships/hyperlink" Target="http://www.youtube.com/watch?v=S4KrIMZpwCY&amp;safety_mode=true&amp;persist_safety_mode=1" TargetMode="External"/><Relationship Id="rId5" Type="http://schemas.openxmlformats.org/officeDocument/2006/relationships/hyperlink" Target="http://www.youtube.com/watch?v=S4KrIMZpwCY&amp;safety_mode=true&amp;persist_safety_mode=1" TargetMode="Externa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EymUbVrbgw&amp;feature=youtube_gdata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Yi6M721S5E&amp;safety_mode=true&amp;persist_safety_mode=1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O50gMfqe0lM&amp;feature=related&amp;safety_mode=true&amp;persist_safety_mode=1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rLObtDvsa8&amp;safety_mode=true&amp;persist_safety_mode=1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VVL8ptff7yI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6QJy2r7mMNY&amp;safety_mode=true&amp;persist_safety_mode=1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2286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r>
              <a:rPr b="0" lang="en-US" sz="8000" spc="-1" strike="noStrike">
                <a:solidFill>
                  <a:srgbClr val="ebd189"/>
                </a:solidFill>
                <a:latin typeface="Arial"/>
              </a:rPr>
              <a:t>Inventions</a:t>
            </a:r>
            <a:br>
              <a:rPr sz="8000"/>
            </a:br>
            <a:r>
              <a:rPr b="0" lang="en-US" sz="8000" spc="-1" strike="noStrike">
                <a:solidFill>
                  <a:srgbClr val="ebd189"/>
                </a:solidFill>
                <a:latin typeface="Arial"/>
              </a:rPr>
              <a:t> of the </a:t>
            </a:r>
            <a:br>
              <a:rPr sz="8000"/>
            </a:br>
            <a:r>
              <a:rPr b="0" lang="en-US" sz="8000" spc="-1" strike="noStrike">
                <a:solidFill>
                  <a:srgbClr val="ebd189"/>
                </a:solidFill>
                <a:latin typeface="Arial"/>
              </a:rPr>
              <a:t>Industrial Revolution</a:t>
            </a:r>
            <a:br>
              <a:rPr sz="8000"/>
            </a:br>
            <a:br>
              <a:rPr sz="8000"/>
            </a:br>
            <a:r>
              <a:rPr b="0" lang="en-US" sz="1800" spc="-1" strike="noStrike">
                <a:solidFill>
                  <a:srgbClr val="ebd189"/>
                </a:solidFill>
                <a:latin typeface="Arial"/>
              </a:rPr>
              <a:t>http://www.youtube.com/watch?v=1d_RFQn-_rM&amp;safety_mode=true&amp;persist_safety_mode=1 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Model 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vented by Henry For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vented in 1925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enry Ford also invented the assembly lin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3"/>
              </a:rPr>
              <a:t>=S4KrIMZpwCY&amp;safety_mode=</a:t>
            </a: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4"/>
              </a:rPr>
              <a:t>true&amp;persist_safety_mode</a:t>
            </a: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5"/>
              </a:rPr>
              <a:t>=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Kodak Camer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vented by George Eastma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vented in 189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ttp://www.youtube.com/watch?v=ERco3sw43QM&amp;feature=rel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ires (vulcanized rubber)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vented by Charles Goodyea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vented in 184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ttp://www.youtube.com/watch?v=Mf8Icjt5smc&amp;feature=rel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un Video Overview!!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ttp://www.youtube.com/watch?v=-8wuGRlRZqk&amp;safety_mode=true&amp;persist_safety_mode=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IG QUESTION?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Quick Write!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What was the most significant invention during the Industrial Revolution? Why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United States Patent Offi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eople who thought up new and useful inventions registered them at this office and called them Pat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Patent prohibits anyone else from using, making or selling the invention without the inventors permis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round the 1870’s, 23,500 patents were registered per year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dustrial Revolution Inven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t up your paper like thi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676520" y="2514600"/>
          <a:ext cx="6933960" cy="3429000"/>
        </p:xfrm>
        <a:graphic>
          <a:graphicData uri="http://schemas.openxmlformats.org/drawingml/2006/table">
            <a:tbl>
              <a:tblPr/>
              <a:tblGrid>
                <a:gridCol w="1733400"/>
                <a:gridCol w="1733760"/>
                <a:gridCol w="1733400"/>
                <a:gridCol w="173340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vento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ventio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ate invented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gnificance in history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2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aeae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aeae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aeae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aeaea">
                        <a:alpha val="20000"/>
                      </a:srgbClr>
                    </a:solidFill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aeae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aeae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aeae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aeaea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Steam Engin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vented by James Wat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vented in 1876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www.youtube.com/watch?v=MEymUbVrbgw&amp;feature=youtube_gda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Cotton Gi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vented by Eli Whitne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atent registered in 179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www.youtube.com/watch?v=tYi6M721S5E&amp;safety_mode=true&amp;persist_safety_mode=1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Sewing Machin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696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vented by Isaac Sing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atented in 185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www.youtube.com/watch?v=O50gMfqe0lM&amp;feature=related&amp;safety_mode=true&amp;persist_safety_mode=1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Telephon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vented by Alexander Graham Bel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gistered in 1876 (also when the First Phone Call happened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www.youtube.com/watch?v=TrLObtDvsa8&amp;safety_mode=true&amp;persist_safety_mode=1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Light Bulb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2392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vented by Thomas Edis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atented in 188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www.youtube.com/watch?v=VVL8ptff7y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Airplan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vented by Orville and Wilbur W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vented in 190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www.youtube.com/watch?v=6QJy2r7mMNY&amp;safety_mode=true&amp;persist_safety_mode=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00:38:19Z</dcterms:created>
  <dc:creator>Staff</dc:creator>
  <dc:description/>
  <dc:language>en-US</dc:language>
  <cp:lastModifiedBy>Information Technology</cp:lastModifiedBy>
  <dcterms:modified xsi:type="dcterms:W3CDTF">2011-04-19T16:58:50Z</dcterms:modified>
  <cp:revision>23</cp:revision>
  <dc:subject/>
  <dc:title>Results of the Industrial Revolu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